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456B-18BE-4662-B736-235DE8CB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6BCA-37BF-4D53-AF16-EDC2C307A1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77ED-8AAE-4978-AFC2-749E3343B5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C1AD-B069-4B25-8F2D-DC9B608943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B330-9A6A-4B58-AF82-4DE9FE0CED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4453-F179-46E4-8BD4-C9FC16F83C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42CE-4B02-4DDA-884C-9DC202ECA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B07-27C8-4BF3-B117-628326422F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1323-3509-407F-8147-BA97CF1266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7DAD-A796-4EFD-8937-5558F5F370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34D8-CB9D-4C60-8361-4500E3191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12C-AE77-4381-A502-3250B114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D00-228D-4B18-81A0-4F02A180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1A4-FA40-48A5-AD22-67296ADF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C16-9289-4EEB-8D4C-267CDA32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A5F8-F472-4DDC-954D-0243FC44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5682-71B4-412B-A9C8-69FC68E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B782-0D22-4890-A5DD-8A09E41E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DD95-D017-4051-862D-07F94A17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7048-0795-4FD6-9CB3-F41CFF1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6133-3690-4531-9A2B-176F270B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C190-5CF8-41CF-825A-1F03A79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B8B-D394-4955-AAC2-0475387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62AB-4025-429C-B69B-F5E305A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4AB4-C7A8-42D7-8C80-7F3FC2B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54FD-E0D3-4FB7-BD37-FD7C286C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5677-85D0-4A96-B3B5-2C4CE4AE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CFC3-338D-4A81-A616-E6E2A136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045-5CA7-4B13-B967-1C7D0188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AE8-F0F8-4C8D-B6F1-DA465F69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5B7-56E1-4D23-A579-1CD1911D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99B-E349-440F-9420-99C3713F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4D4-2115-482D-A2A4-FAFA001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5E9-B4C1-4571-BD7E-4AF80E5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CC8-443F-4351-AD92-1946543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517E-2CB5-47BB-874B-77F7BF7CD9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7165-C29F-4B6B-93A1-5A94BE847A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Comic Sans MS"/>
              </a:rPr>
              <a:t>The Periodic Tabl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s 3-12:  Transition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nd freely and in compounds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at conductors of electric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xed with paints to achieve bright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lude radioactive elements 89 through 1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lude Mercury, the only metal that is liquid at room temper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a silvery luster, except Copper and Go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usually 2 but can vary—usually 2 valence electrons (2 in outer sh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13:  Boron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lic (except Boron, which is a solid metallo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arce in nature (except Aluminum, which is the most abundant metallic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+3:  3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14:  The Carbon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ains elements that can form unusual bonds (Carbon and Silic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ludes a nonmetal (Carbon), two metalloids (Silicon and Germanium) and two metals (Tin and Lea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latively unre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+4 or -4:  contains 4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6854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15: The Nitrogen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sists of two nonmetals (Nitrogen and Phosphorus), two metalloids (Arsenic and Antimony), and one metal (Bismuth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itrogen is most commonly found as atmospheric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nge from very abundant elements (Nitrogen and Phosphorus) to relatively rare elements (Arsenic, Antimony, and Bismuth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lids at room temperature, except Nit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-3:  contains 5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p 16:  The Oxygen Fam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sists of three nonmetals (Oxygen, Sulfur, and Selenium), one metalloid (Tellurium), and one metal (Polon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so known as the Chalco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-2:  6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p 17:  The Halo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reactive nonmetals, with Fluorine being the most reactive of all non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nd in the rocks of Earth's crust and dissolved in sea wa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 as a gas at room temperature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a liquid (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and a solid (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-1:  7 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 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p 18:  The Noble Gases (The Inert Ga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nreac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orless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is 0:  2 or 8 valence electrons- have a full outer energy lev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Special Rows on the P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867280" cy="4214880"/>
          </a:xfrm>
          <a:prstGeom prst="rect">
            <a:avLst/>
          </a:prstGeom>
          <a:ln w="0">
            <a:noFill/>
          </a:ln>
        </p:spPr>
      </p:pic>
      <p:sp>
        <p:nvSpPr>
          <p:cNvPr id="163" name="Line 5"/>
          <p:cNvSpPr/>
          <p:nvPr/>
        </p:nvSpPr>
        <p:spPr>
          <a:xfrm flipV="1">
            <a:off x="1905120" y="4876920"/>
            <a:ext cx="1523880" cy="457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2514600" y="5409720"/>
            <a:ext cx="91440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2860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nthanid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47920" y="6095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ctinid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nthanides Family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ery reactive; burns easily in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5 soft 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ce called the Rare Earth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latively abundant in Earth's c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nd in Row 6 of the periodic table between Groups 3 and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ccur together in nature, and they are very difficult to separate from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lvery-white metals that tarnish when exposed to air, forming their oxid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nides Family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are radioacti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5 very dense metals- tarnish in ai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inides combine directly with most non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Father of the Periodic Table—Dimitri Mendelee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ndeleev was the first scientist to notice the relationship between th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ranged his periodic table by 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id properties of unknown elements could be predicted by the properties of elements around the missing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eley later discovered that the periodic nature of the elements was associated with atomic number, not atomic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termost (last shell) electrons in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ectrons available for interactions with valence electrons of other atoms in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alloid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 elements: Boron, Silicon, Germanium, Arsenic, Antimony and Tellu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ments found along the stair-step line that distinguishes metals from non-met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emical elements with properties that are in-between or a mixture of those of metals and non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a metallic appearance but they are brittle and only fair conductors of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The Periodic Tabl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5715000" cy="4105440"/>
          </a:xfrm>
          <a:prstGeom prst="rect">
            <a:avLst/>
          </a:prstGeom>
          <a:ln w="0">
            <a:noFill/>
          </a:ln>
        </p:spPr>
      </p:pic>
      <p:sp>
        <p:nvSpPr>
          <p:cNvPr id="114" name="Line 5"/>
          <p:cNvSpPr/>
          <p:nvPr/>
        </p:nvSpPr>
        <p:spPr>
          <a:xfrm flipV="1">
            <a:off x="2362320" y="2057040"/>
            <a:ext cx="914400" cy="10666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04920" y="3124080"/>
            <a:ext cx="2361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lumn = Group or Fami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8 columns on the Periodic Ta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0" y="4724280"/>
            <a:ext cx="18288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04920" y="4724280"/>
            <a:ext cx="2133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ow = Perio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7 rows on the Periodic Ta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What does the information in the box tell m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2840" y="1828440"/>
            <a:ext cx="380988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.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362320" y="2438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2057400" y="2209680"/>
            <a:ext cx="2057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62120" y="27432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28600" y="23623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omic Number = # of prot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2057400" y="4648320"/>
            <a:ext cx="1676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4920" y="411480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omic Mass = # of protons plus neutr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Line 11"/>
          <p:cNvSpPr/>
          <p:nvPr/>
        </p:nvSpPr>
        <p:spPr>
          <a:xfrm flipH="1">
            <a:off x="5714640" y="297180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7391520" y="2666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mental Symb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etals, Nonmetals, and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emi-metal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09680" y="1925640"/>
            <a:ext cx="6324840" cy="454356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6477120" y="3429000"/>
            <a:ext cx="3045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781680" y="3429000"/>
            <a:ext cx="0" cy="45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6781680" y="3886200"/>
            <a:ext cx="3049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86600" y="3886200"/>
            <a:ext cx="0" cy="3808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086600" y="4267080"/>
            <a:ext cx="3049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7391520" y="4267080"/>
            <a:ext cx="0" cy="45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0" y="29718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tals are to the left of the    stair- ste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1600200" y="1523880"/>
            <a:ext cx="106668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28600" y="990720"/>
            <a:ext cx="198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nmetal on the metal si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6324480" y="1219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nmetals are on the right of the stair-ste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0" y="464832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mi-metals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talloids,”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uch the    stair-ste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1:  The Alkali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reactive metals on the 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ctive in water and air thus stored in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rely found free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ge of +1:  1 valence electron (1 electron in the outer sh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 Sans MS"/>
              </a:rPr>
              <a:t>The Groups of the Periodic Tabl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oup 2:  The Alkaline Earth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till quite re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React with water to form bases and hydrogen g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ave a silvery 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Good conductors of heat and electric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harge of +2:  2 valence electrons (2 electrons in outer sh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1:42:37Z</dcterms:created>
  <dc:creator>jcameron</dc:creator>
  <dc:description/>
  <dc:language>en-US</dc:language>
  <cp:lastModifiedBy>Administrator</cp:lastModifiedBy>
  <dcterms:modified xsi:type="dcterms:W3CDTF">2014-03-25T18:15:05Z</dcterms:modified>
  <cp:revision>47</cp:revision>
  <dc:subject/>
  <dc:title>The Periodic Table</dc:title>
</cp:coreProperties>
</file>